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DC5-0032-4DB5-81C2-24A28A88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BE8-4362-4B89-8C75-1E4148A3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14B-5EE9-4108-AAC9-5DC9879B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BC5-1DED-4CDA-AFBA-BF5FFA55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5B88-5AA0-4F0B-857B-EE16D660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CB89-59E6-4573-9173-881B8B78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E11B-DBAB-48F1-9D6E-8281E1D4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159C-C21C-4574-AE9F-D456AC07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822C-B5C2-4F35-AEC4-B6D6AC04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8DBA-EF67-4472-8A5F-43BEE24E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8B3B-4F51-404C-AD62-77E2F2D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E5E-8089-496F-B0FA-C9C0FCA9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FB7A-31C6-42CA-9C59-5C8DBC01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20FB-28A8-4325-918C-D4258999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3CD6-ECE9-42EA-97B2-B75EEDA5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0AFE-809E-4ABC-B511-1A21B6C8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8ABD-AC06-471D-A16E-1A0EB9A1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3CB-744E-489F-8828-D0858F1D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AB6-8172-4B9D-9160-C0D70E62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650-A395-472D-8742-5520271E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A10-F8DC-431D-A574-13BBC44C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EDF-0FD3-4363-926B-12C312F2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13F-7D51-4D8C-A4D4-A19A710D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9FC-82E0-48BE-ACAC-22AE50B2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7BA0-E910-4C80-99B1-F53E149A1FAC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9714-D8B8-4719-8415-70F9A2CC6514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cnn.com/2008/WORLD/asiapcf/08/18/musharraf.address/" TargetMode="External"/><Relationship Id="rId7" Type="http://schemas.openxmlformats.org/officeDocument/2006/relationships/image" Target="../media/image4.pct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s.bbc.co.uk/2/hi/south_asia/7570286.stm" TargetMode="External"/><Relationship Id="rId2" Type="http://schemas.openxmlformats.org/officeDocument/2006/relationships/hyperlink" Target="http://news.bbc.co.uk/2/hi/south_asia/7570286.stm" TargetMode="External"/><Relationship Id="rId3" Type="http://schemas.openxmlformats.org/officeDocument/2006/relationships/hyperlink" Target="http://news.bbc.co.uk/2/hi/south_asia/7570286.stm" TargetMode="External"/><Relationship Id="rId4" Type="http://schemas.openxmlformats.org/officeDocument/2006/relationships/hyperlink" Target="http://news.bbc.co.uk/2/hi/south_asia/7570286.stm" TargetMode="External"/><Relationship Id="rId5" Type="http://schemas.openxmlformats.org/officeDocument/2006/relationships/hyperlink" Target="http://www.cnn.com/2008/WORLD/asiapcf/08/18/musharraf.address/" TargetMode="External"/><Relationship Id="rId6" Type="http://schemas.openxmlformats.org/officeDocument/2006/relationships/hyperlink" Target="http://news.bbc.co.uk/2/hi/in_depth/americas/2008/vote_usa_2008/7595111.stm" TargetMode="External"/><Relationship Id="rId7" Type="http://schemas.openxmlformats.org/officeDocument/2006/relationships/hyperlink" Target="http://pressherald.mainetoday.com/story.php?id=207273&amp;ac=PHnws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Charcoal CY"/>
              </a:rPr>
              <a:t>Current Events</a:t>
            </a:r>
            <a:br>
              <a:rPr sz="4800"/>
            </a:br>
            <a:br>
              <a:rPr sz="1200"/>
            </a:br>
            <a:r>
              <a:rPr b="0" lang="en-US" sz="3200" spc="-1" strike="noStrike">
                <a:solidFill>
                  <a:srgbClr val="003300"/>
                </a:solidFill>
                <a:latin typeface="Charcoal CY"/>
              </a:rPr>
              <a:t>August 31, 2008</a:t>
            </a:r>
            <a:br>
              <a:rPr sz="3200"/>
            </a:br>
            <a:br>
              <a:rPr sz="700"/>
            </a:br>
            <a:r>
              <a:rPr b="0" lang="en-US" sz="3600" spc="-1" strike="noStrike">
                <a:solidFill>
                  <a:srgbClr val="003300"/>
                </a:solidFill>
                <a:latin typeface="Charcoal CY"/>
              </a:rPr>
              <a:t>Ms. Sander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Big Caslon"/>
              </a:rPr>
              <a:t>Musharraf Resigns as Pakistani Presiden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Stepped down August 18th, 9 years in power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Threatened with impeachmen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Big Caslon"/>
              </a:rPr>
              <a:t>Controversy over judges Musharraf fired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Big Caslon"/>
              </a:rPr>
              <a:t>Question now of whether they’ll be reinstated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Parliament must elect new President within 30 day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May face prosecution for abuse of power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May have to leave Pakistan for security reason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42670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510552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4419720"/>
            <a:ext cx="3886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70aabf"/>
                </a:solidFill>
                <a:uFillTx/>
                <a:latin typeface="Arial"/>
                <a:hlinkClick r:id="rId6"/>
              </a:rPr>
              <a:t>http://www.cnn.com/2008/WORLD/asiapcf/08/18/musharraf.address/</a:t>
            </a:r>
            <a:r>
              <a:rPr b="0" lang="en-US" sz="9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105520" y="152388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800600" y="5105520"/>
            <a:ext cx="403848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Slide 1 should focus on the events -- what happen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57240"/>
            <a:ext cx="289584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International Stor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Big Caslon"/>
              </a:rPr>
              <a:t>Significance of Musharraf’s Resignation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3400" y="1243080"/>
            <a:ext cx="4618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U.S. &amp; British played significant role in negotiations over Musharraf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Big Caslon"/>
              </a:rPr>
              <a:t>Pakistan key ally in war on terror because Osama bin Laden believed to be in hiding ther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Big Caslon"/>
              </a:rPr>
              <a:t>Militant groups grew in number and power under Musharraf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Question of how much power next president will hav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Army will likely have far less impact on politics now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Next government will face opposition from militant group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8098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365760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00"/>
                </a:solidFill>
                <a:latin typeface="Arial"/>
              </a:rPr>
              <a:t>http://goatmilk.files.wordpress.com/2008/03/pk-fire-2.jpg </a:t>
            </a:r>
            <a:endParaRPr b="0" lang="en-US" sz="9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181480" y="1371600"/>
            <a:ext cx="3200400" cy="2173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4800" y="5105520"/>
            <a:ext cx="434340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Slide 2 should focus on why the story is significa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57240"/>
            <a:ext cx="28954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International Stor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5029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00"/>
                </a:solidFill>
                <a:latin typeface="Big Caslon"/>
              </a:rPr>
              <a:t>Democratic Convention</a:t>
            </a:r>
            <a:endParaRPr b="0" lang="en-US" sz="37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40384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Late August, Denv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Notable speakers: Michelle Obama, Ted Kennedy, Hillary Clinton, Bill Clinton, Joe Bide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Culmination: Obama’s speech to audience of 84,000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657600"/>
            <a:ext cx="5029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00"/>
                </a:solidFill>
                <a:latin typeface="Arial"/>
              </a:rPr>
              <a:t>http://pressherald.mainetoday.com/photo_biginizer.html?pid=1683727&amp;pd=080828</a:t>
            </a:r>
            <a:endParaRPr b="0" lang="en-US" sz="9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066680" y="1295280"/>
            <a:ext cx="4496040" cy="2522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8120" y="57240"/>
            <a:ext cx="28954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National Stor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1600200"/>
            <a:ext cx="2209680" cy="155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Slide 1 should focus on the events -- what happen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Big Caslon"/>
              </a:rPr>
              <a:t>Significance of Democratic Convention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Focus on building party unity after Obama/Clinton primary ra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Effort to get party to be aggressive against McCai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Encourage voters to seek leadership change in Washingt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38098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572000"/>
            <a:ext cx="373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00"/>
                </a:solidFill>
                <a:latin typeface="Arial"/>
              </a:rPr>
              <a:t>http://www.time.com/time/nation/article/0,8599,1837485,00.html </a:t>
            </a:r>
            <a:endParaRPr b="0" lang="en-US" sz="9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4813200" cy="313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971800" y="57240"/>
            <a:ext cx="28954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National Stor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5105520"/>
            <a:ext cx="441972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Slide 2 should focus on why the story is significa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819000"/>
            <a:ext cx="79246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1d44"/>
                </a:solidFill>
                <a:latin typeface="Arial"/>
              </a:rPr>
              <a:t>Include a big picture so everyone can read your carto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6121440"/>
            <a:ext cx="5105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1d44"/>
                </a:solidFill>
                <a:latin typeface="Arial"/>
              </a:rPr>
              <a:t>Make sure to include a source citation for all images -- including pictures in your news stories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705360" cy="4581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1440" y="6235560"/>
            <a:ext cx="299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70aabf"/>
                </a:solidFill>
                <a:uFillTx/>
                <a:latin typeface="Arial"/>
              </a:rPr>
              <a:t>http://www.cagle.com/news/Olympics08/main.asp</a:t>
            </a: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40514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Big Caslon"/>
              </a:rPr>
              <a:t>Viewpoint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China has dangerously high levels of air pollution which could negatively affect Chinese people and the environmen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1447920"/>
            <a:ext cx="350532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Big Caslon"/>
              </a:rPr>
              <a:t>Cartoon Analysi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Big Caslon"/>
              </a:rPr>
              <a:t>   </a:t>
            </a:r>
            <a:r>
              <a:rPr b="1" lang="en-US" sz="2000" spc="-1" strike="noStrike">
                <a:solidFill>
                  <a:srgbClr val="003300"/>
                </a:solidFill>
                <a:latin typeface="Big Caslon"/>
              </a:rPr>
              <a:t>Exaggeration</a:t>
            </a:r>
            <a:r>
              <a:rPr b="0" lang="en-US" sz="2000" spc="-1" strike="noStrike">
                <a:solidFill>
                  <a:srgbClr val="003300"/>
                </a:solidFill>
                <a:latin typeface="Big Caslon"/>
              </a:rPr>
              <a:t>: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Big Caslo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Big Caslon"/>
                <a:ea typeface="ＭＳ Ｐゴシック"/>
              </a:rPr>
              <a:t>Olympic torch giving off huge amounts of smog, killing birds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Big Caslo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Big Caslon"/>
                <a:ea typeface="ＭＳ Ｐゴシック"/>
              </a:rPr>
              <a:t>emphasizes (and exaggerates) high pollution levels in Chin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787320"/>
            <a:ext cx="34290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1d44"/>
                </a:solidFill>
                <a:latin typeface="Arial"/>
              </a:rPr>
              <a:t>Include a smaller version of the cartoon on this analysis pag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029200"/>
            <a:ext cx="3429000" cy="916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1d44"/>
                </a:solidFill>
                <a:latin typeface="Arial"/>
              </a:rPr>
              <a:t>Be sure to discuss one cartoon element as well as the overall viewpoint of the cartoo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4343400" cy="2967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46000" y="822240"/>
            <a:ext cx="299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70aabf"/>
                </a:solidFill>
                <a:uFillTx/>
                <a:latin typeface="Arial"/>
              </a:rPr>
              <a:t>http://www.cagle.com/news/Olympics08/main.asp</a:t>
            </a: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rcoal CY"/>
              </a:rPr>
              <a:t>News Sourc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1800" y="2050920"/>
            <a:ext cx="763272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ational News Stor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ource 1: </a:t>
            </a:r>
            <a:r>
              <a:rPr b="0" lang="en-US" sz="1600" spc="-1" strike="noStrike" u="sng">
                <a:solidFill>
                  <a:srgbClr val="70aabf"/>
                </a:solidFill>
                <a:uFillTx/>
                <a:latin typeface="Arial"/>
                <a:hlinkClick r:id="rId1"/>
              </a:rPr>
              <a:t>http://news.</a:t>
            </a:r>
            <a:r>
              <a:rPr b="0" lang="en-US" sz="16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bbc</a:t>
            </a:r>
            <a:r>
              <a:rPr b="0" lang="en-US" sz="1600" spc="-1" strike="noStrike" u="sng">
                <a:solidFill>
                  <a:srgbClr val="70aabf"/>
                </a:solidFill>
                <a:uFillTx/>
                <a:latin typeface="Arial"/>
                <a:hlinkClick r:id="rId3"/>
              </a:rPr>
              <a:t>.co.uk/2/hi/south_asia/7570286.</a:t>
            </a:r>
            <a:r>
              <a:rPr b="0" lang="en-US" sz="1600" spc="-1" strike="noStrike" u="sng">
                <a:solidFill>
                  <a:srgbClr val="70aabf"/>
                </a:solidFill>
                <a:uFillTx/>
                <a:latin typeface="Arial"/>
                <a:hlinkClick r:id="rId4"/>
              </a:rPr>
              <a:t>st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ource 2:</a:t>
            </a: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 </a:t>
            </a:r>
            <a:r>
              <a:rPr b="0" lang="en-US" sz="1600" spc="-1" strike="noStrike" u="sng">
                <a:solidFill>
                  <a:srgbClr val="70aabf"/>
                </a:solidFill>
                <a:uFillTx/>
                <a:latin typeface="Big Caslon"/>
                <a:hlinkClick r:id="rId5"/>
              </a:rPr>
              <a:t>http://www.cnn.com/2008/WORLD/asiapcf/08/18/musharraf.address/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tional News Stor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ource 1: </a:t>
            </a:r>
            <a:r>
              <a:rPr b="0" lang="en-US" sz="1400" spc="-1" strike="noStrike" u="sng">
                <a:solidFill>
                  <a:srgbClr val="70aabf"/>
                </a:solidFill>
                <a:uFillTx/>
                <a:latin typeface="Arial"/>
                <a:hlinkClick r:id="rId6"/>
              </a:rPr>
              <a:t>http://news.bbc.co.uk/2/hi/in_depth/americas/2008/vote_usa_2008/7595111.stm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ource 2:</a:t>
            </a:r>
            <a:r>
              <a:rPr b="0" lang="en-US" sz="2400" spc="-1" strike="noStrike">
                <a:solidFill>
                  <a:srgbClr val="003300"/>
                </a:solidFill>
                <a:latin typeface="Big Caslon"/>
              </a:rPr>
              <a:t> </a:t>
            </a:r>
            <a:r>
              <a:rPr b="0" lang="en-US" sz="1600" spc="-1" strike="noStrike" u="sng">
                <a:solidFill>
                  <a:srgbClr val="70aabf"/>
                </a:solidFill>
                <a:uFillTx/>
                <a:latin typeface="Big Caslon"/>
                <a:hlinkClick r:id="rId7"/>
              </a:rPr>
              <a:t>http://pressherald.mainetoday.com/story.php?id=207273&amp;ac=PHnws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5105520"/>
            <a:ext cx="7620120" cy="580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1d44"/>
                </a:solidFill>
                <a:latin typeface="Arial"/>
              </a:rPr>
              <a:t>You should read, analyze and include 2 news sources for each of your stories. Be sure to include source citations for </a:t>
            </a:r>
            <a:r>
              <a:rPr b="1" lang="en-US" sz="1600" spc="-1" strike="noStrike">
                <a:solidFill>
                  <a:srgbClr val="b21d44"/>
                </a:solidFill>
                <a:latin typeface="Arial"/>
              </a:rPr>
              <a:t>images</a:t>
            </a:r>
            <a:r>
              <a:rPr b="0" lang="en-US" sz="1600" spc="-1" strike="noStrike">
                <a:solidFill>
                  <a:srgbClr val="b21d44"/>
                </a:solidFill>
                <a:latin typeface="Arial"/>
              </a:rPr>
              <a:t> next to the picture or image used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22:55:41Z</dcterms:created>
  <dc:creator>Yarmouth Schools</dc:creator>
  <dc:description/>
  <cp:keywords/>
  <dc:language>en-US</dc:language>
  <cp:lastModifiedBy>YHS Teacher</cp:lastModifiedBy>
  <cp:lastPrinted>2006-10-16T13:23:29Z</cp:lastPrinted>
  <dcterms:modified xsi:type="dcterms:W3CDTF">2008-09-03T20:41:20Z</dcterms:modified>
  <cp:revision>110</cp:revision>
  <dc:subject/>
  <dc:title>PowerPoint Presentation  -  Current Events October 2006</dc:title>
</cp:coreProperties>
</file>